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6D0-BD85-409D-96C6-954C1049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115-F76C-4116-8458-7D6F465C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25067-6812-4559-84AB-4F02E463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B4DF8-902A-46B3-849F-3C795DAC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91C4C-D311-477D-921B-C76B4E04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2E4E1-83F1-46E5-92EC-5BAEC3F9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DF14A-D930-493F-8A2A-2780042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7A81A-3E68-4A45-A891-E83AF460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F8E28-4BA2-433F-875A-E37CFC92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FC6DF-1EB9-450F-9B44-E2BB03A5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54BF9-62E6-4304-8BBF-BB5A7BA9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D262F-27E6-45BB-9019-38E5D376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20E-B912-4A50-96CC-BEC3EA3C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7A25C-BD84-44C4-AD5A-249BC475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ABB2A-4EF1-49C7-B791-92D381E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CBE25-7C93-4D6D-87CF-17B0A9B3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D69D4-CFA1-4C01-91B0-29CCD36E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E3C45-8B21-44EB-A22B-145B288E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A88E2-7B5B-4A20-B8E1-FDD4CFB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FB270-C619-4DB8-A9DE-2AB30DD3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77B95-3AEE-4F58-AAF9-003BB25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993FB-74B5-4B2B-BA13-CC40E995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D8345-FE49-4427-BAE5-9BC074A4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448-9A7B-4814-813A-801E5FC6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A21A4-E0AD-4503-9FF0-E06E9703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277F9-6B4A-42B3-A0E5-ED224F02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53DFB-7BBC-4B91-A244-6382F0A5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1DB99-748F-4542-BF6F-4E18A26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7024B-9940-4191-82C9-DF3F51BC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C0608-F855-45D2-AE50-6C797FC2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BF137-383C-49E5-B92E-8C5ED92C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92328-8B82-4A2E-9D2C-6561DA5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9049-AD42-407D-BC3C-28BF34A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27515-84B1-4B81-902D-CD9A7115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5BED-B704-4124-B721-D97FF345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BB434-11A9-4794-A1AC-9CACE520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96E14-5ECA-4182-9A1C-82C1A7C5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20593-85F7-4E59-BB31-EF27B696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836AE-6524-49FB-85EA-4B828173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8D5C9-8FBD-4997-A212-6DC9E4B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2DB23-0534-4A9D-88C7-7B13204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85894-DBF6-4291-AAEC-959C5825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ECE78-AD05-47D0-82AA-4AD472CA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EE119-B059-4ADB-9818-92115C94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D9FC9-CE35-465E-94B8-5C81A41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54C8-3706-4C24-B60B-0AAA3925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FC50B-561C-4E73-A5EB-43B8D575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D4EA3-2529-4C04-B004-E6E1D3CC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D15F9-05B9-4ED9-A5FD-165589E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56176-0111-401D-9179-4F989C1F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E47EA-616A-4B8D-9DCF-3C34F231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0633D-B088-4233-9EA7-B6C561A5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769CC-2522-49B3-A78E-90424C10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EDCD6-928C-4E61-BA89-B82FAEDC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266B4-D65B-4DB5-BFAB-745199B2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ED883-B317-495B-A370-A194B845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BEDB-9356-4A7B-95B5-B971F2DA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44F52-D88E-4F05-B5EB-93A6309A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19734-6FDE-4BEF-AED0-B3CC8D7B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649AE-032D-436C-8F62-23854BF0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32984-F53B-4E07-84C3-6DF698B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F705F-6CAF-4C20-9B11-2161A018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5FAE0-A681-45D1-ACA7-3C3D4CDB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10CC8-7386-42ED-BF9A-B66ACA12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357AE-588C-44BA-86A0-52B35359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E7CDB-F7F2-46D0-8911-E7864556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07813-F1C0-43C0-9791-C3D52C6E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485A-7A34-4F16-8E30-0648810A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7DBBB-830D-49AD-8B83-BF443C0C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4E659-198A-4977-9525-F27922FA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C92B6-FDF5-4263-BA88-5CEEBD69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99678-09B0-41EA-81FD-4BEFC4B5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57B9B-2126-44F4-8E4B-70EC30EB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F0380-643E-43AA-B4E1-F2F5A0FF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2AA89-1CC1-49F0-B059-7ECA3CE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2DCEE-4836-4FDB-8A87-4239D3FD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81802-3DB0-4536-B9E7-7403143C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684B2-FDCB-4EAD-9A89-5A5DC87B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2FC5-0DA5-42CB-8BDE-67A244CB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C4D74-B02F-47BD-8AF5-D83685A5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B1531-3BC0-4EBE-B98B-C4D7ABF4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6242C-97AB-4941-8A67-D6B1748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2F901-5414-4F22-8079-10BCF48D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F8C31-D14E-4C24-9128-A1802F57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8C078-D94B-436C-8090-A38B5553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11EFC-6E2B-4488-9169-C6B4E13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78687-A6DA-459E-98D1-702C2C8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1F475-2C88-44B0-BBEE-0BC2FC79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B5E03-4256-42A3-9789-1FB6EE7A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ECCF-0B41-4BF3-B88F-8FF01547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0EF48-F3DA-4317-9BA7-CF561ADA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78BE1-DF6C-43F9-8E3C-5142DAC5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01441-5183-4D32-AD41-ECCAA3D1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2F202A-30F2-4653-9B59-456C5DC9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46E7A-06D3-46B6-8420-4F8BC947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F63F3-B4DA-4208-A6FF-C94FD32C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4E3C7-4524-4F62-AA19-76B86CD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1A65D-8A83-4433-9F25-4C8CA9F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F7167-BE96-464E-938C-7D96962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2699C-1247-47DC-8F5B-853B7D7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29CA-207E-49B9-B34B-AC88B6E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E9663-8BF5-4C81-A571-2AB00C8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9B4D7-4E0E-4B47-9859-C78174D0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3D001-6588-4292-86AC-797AE06B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D44B6-3A0E-4A0A-9034-52893D26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F9D90-2F70-4A7D-96B3-6D8DEA73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B3FAF-FEBE-4B6C-B6E9-8BB85B2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C48D7-5E49-46E3-AAC4-933F937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16EE6-3F09-4E1E-BFE4-8C515710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75428-3043-4667-80FD-EF026A1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D229A-3323-4D82-815D-2DD6A627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7E9-1CDB-49E6-B339-67559A82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C4B9-FF44-4A29-A5D7-401CDB1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EE8D4-5673-468A-927F-5B4CE47A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8835C-C99B-4625-942A-94024E1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61D4A-328F-4130-889D-EBFDFB8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80077-284E-4DA1-B235-236C1C8C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2B5B5-03DB-456F-ACAD-091F94B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C35F9-552A-4891-B346-0C43E57E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633D2-2EE1-4645-A922-D1B8DC5C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7326F-F9FF-4C79-9299-6E9CF08B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9C5B7-E22A-4F49-AE90-C73F87C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832AD-E902-4886-8B7A-E3BEA1E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22E1-39EB-4A1D-8237-66CE5AA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D2785-9C64-47D7-9BB3-DB1ADDB7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1F3E7-305E-4A85-B250-35B2A2F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CFD2E-85E0-4B2A-AD2D-8D0E1EB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BF930-3E10-47C7-A3AE-A65D5A60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F2F80-5B32-48E7-B67B-1D831E22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43AAD-B950-41B1-965D-B1A9FAFB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B90F5-88E9-46F7-9779-3E426AC2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6111-0A69-43C2-8FE9-30AD6695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DF35-B99A-4253-AFCD-8AEF4D69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6DB1-065C-4935-A83F-54968F3A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3AC5-CAC3-48E8-BC5C-27AF3728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538B-E1D8-4F8F-BF73-03C34634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4539-8A96-454C-9E9F-AC6C1806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61A3-9E40-4DD3-BF89-1CD45A7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829A-16F0-487B-A4CC-78BACFF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6A0-8AE9-40CF-A4A2-7E076D40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F2CA-543B-4BE2-A7C1-418FEE5E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1CFD-F7E4-4D3C-B209-5ABB69A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C10D-41FD-4DDB-BA47-56E8C21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A05D-7614-49C1-B274-0163CF18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603B-0C79-4D75-8788-BBFC4CB8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BF41-C6CA-41C9-B21B-025B5163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DDA2-BEC8-4A9B-9A8C-2FBB0DEB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20EE-D6EA-401D-95F1-D4B903D7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AE0F-ECBB-4148-8D24-E6F9D85E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8C85-C71B-4C47-8BE1-95953DC0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4D6-FEA2-4E8C-A8F0-1A21AF89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C87A-4CBE-47B2-9D7A-29DA9E78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4369-FEB7-46BA-8969-EB26EBDC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6BD5-BBC1-4322-9944-ADAD7783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B638D-75D2-473F-AEAC-3519112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BE74-1ADA-45CC-A1F9-EDD518D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640BD-7CD3-4DB9-95EC-E2A551C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EDDF-7EDB-4FCD-BB4E-0A3B69F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1F3F-7B04-4F4C-A7AD-D242768E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0593-51E6-451D-A999-0C7909A5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CAEE-2220-4544-9128-9B09C6CB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851-D31B-4846-BC82-414640E3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CF7CD-C01A-4FF1-89A5-109BC456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9F2D-17D0-46F6-91CF-F22701C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D5477-0902-4C20-AC69-1D366CF8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4D5F-87DC-47D0-A0F9-9F403D0C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39A0-7FE3-44DF-BEAA-E044A61F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4756-6C2F-4DBB-A6F2-F9CB595A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B9DE-BD8B-4007-BEEB-11B8DEC6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9EB35-F959-45EF-94CD-C40C749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036DE-2C9D-40A0-BD9A-7011ACC6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86C1-8D75-4A59-A458-D062C78A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712-1F0E-48D6-95F4-13485CD9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8E07-FF32-423D-9C4A-D194F0DA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15E7-624D-4A1E-94D7-95DB0D40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2723-4C0D-4D0C-878A-74468DC6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6ACF-633E-4F87-95EA-D0293E7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1A21-3DB5-4E6D-A882-79F2DAAE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AC56-DDA7-460C-9EA2-E4C4036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D37A5-F4A7-41D9-8D2B-BE632F4B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E629D-0FE5-4B43-8644-A20A46A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A0DD-B579-4120-90EB-A898F090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1C82-E9D6-4AC8-B341-CAFD8E28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A50-A749-450C-8336-E3B1F0C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7DB32-EFB9-40C7-909A-1D50FD50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132B-0AF3-4A6E-A8C6-AF4DF6DA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E81B5-03FE-4A61-8549-002EE8B5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4C44-330D-4D06-848E-0AD4B4FF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CAA0-86F7-403E-8BD6-B1300F82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27D70-16D1-424F-B5F2-E07EC3AC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96F8C-A218-4D22-9FDE-E7C3F0B4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0C893-809A-4906-A2DB-5F16895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88EC-6424-4ABB-9E64-CDAD373A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64D93-C29B-4AA4-A707-AAFDDCD1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083-36B5-47BC-9F2D-2E03229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3EE31-02A7-430A-ACAD-FDC0B242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88C81-5052-4A38-8406-4E3F746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7BB5-9931-4500-8D74-2A00E38F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68BC9-6992-4981-8805-827E1F0F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554EF-A414-4CD3-8703-F266BB71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CAB27-3CF2-475B-87D3-4CB2B2AC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2D85-D63A-4E79-BEE6-78EFBBD2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65777-D3F3-47BF-83C2-7DAEDEB8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DAA90-131B-4CE2-944D-5D69D307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7561-7453-4AB9-AB10-2CA43138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D5F-5DD2-4F9B-A672-6D64D425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1FE2B-E336-4866-B584-F37BF62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B469D-8521-4E9A-8B32-EFE0A776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9D6F-241D-4C41-B237-447CFCDA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D7B18-0548-4F8E-9D39-BE9AAF1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530C-2216-406E-B288-0F04F81B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190FF-ECCA-466D-9FF6-1651D1FC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8051E-B61D-447C-838F-B96BE832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9C6FE-5E12-47CE-8344-B9166BDB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B14D9-19CD-4DF7-AD81-2FB6FB6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1CFD1-0164-4344-8DB3-57DDA6CF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D8AAE-C564-43F6-97EE-C2A3357A2D0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AC46E-4BC1-4DFE-AA79-A29A4F892C1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E17B1-CA67-454B-BCD7-073A5C73AA2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28902-C178-4154-87AE-1026BCDF815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F6CE6-DFCD-4BCA-A152-C7E05784893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E3FB9-53AA-48D3-A3D0-6A2ABF73E9D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5621A-EFBB-4839-B8C8-DDD04AD24FF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EB3FE-B9DC-492D-8CC2-8A9618A10F4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55BB5-90D9-46DF-9E74-F2F018043A6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6E3E4-0A04-423C-9E29-CEF58F289B4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3E284-0F8A-4558-BA8E-EFE206F20E4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5B3C0-C575-4AB8-A899-8BD7FDF4B5A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C3BA3-8FB7-439B-A318-61D4E17841A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5912A-E917-40E1-9ACF-619E2AB3427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CF25C-E9D1-45D9-AA28-D997D9C8FD9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A756A-BBD7-49EC-8E2F-18FA7C57D54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796DF-CC1B-4FCB-B274-EE2B1E3FE3D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F5A90-5B5E-4B9A-9A46-241C1701B27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58560" y="1213920"/>
            <a:ext cx="5359320" cy="279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Trebuchet MS"/>
              </a:rPr>
              <a:t>ОРТОТИКА И ПРОТЕТИК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084280"/>
            <a:ext cx="610704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птозе су помагала која служе за замену изгубљене функције одређеног сегмента локомоторног апарата, спречавају настанак контрактура и деформације зглоба врше корекцију деформација кичменог стуб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042920" y="227628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е колен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а за кичмени стуб: 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Millwauke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 мидер,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TLSO 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идер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стала помагала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педска обућ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за крет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у оквиру АДЖ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и техничке олакшице у кући и на радном мест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 и проте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899640" y="2336400"/>
            <a:ext cx="7704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имена протетских и ортотских средстава, представља супституцију изгубљених делова тела(протезе) или изгубљених функција (ортоз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отезе се користе након ампутације горњих и доњих екстремитет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рехабилитац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280" y="2336400"/>
            <a:ext cx="75610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rebuchet MS"/>
              </a:rPr>
              <a:t>Услов је да пацијент х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ротетич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рехабилитац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ј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ложен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нтердисциплинарн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датак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циље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н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аксималн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огућ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физиолош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онструкциј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ктив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етањ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ребала би да се спроведе до месец дана од ампутације.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00000" y="752040"/>
            <a:ext cx="71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е протетичке рехабилит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r>
              <a:rPr b="0" lang="hr-HR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ОПЕРАТИВНОЈ ФАЗИ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ит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н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мпутациј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атећ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ехабилитациј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ак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цијен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–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изиотерапеут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рж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дициј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еч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рактур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ОСТОПЕРАТИВН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826560" y="2336760"/>
            <a:ext cx="799308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едставља период након ампутације екстремитет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Циљеви у постоперативн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мањење отока патрљк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Превенцију инфекциј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пречавање развоја контрактур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нтомског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о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ј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сихоло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р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33520" y="2336400"/>
            <a:ext cx="79992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дставља пери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вршет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ме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протетчк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/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дав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магало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рет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из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езависност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ДЖ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њ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11280" y="220500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вној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лоз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к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ек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епениц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стај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из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родн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кружењ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ут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вентуал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ортск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тивност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стављ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аљ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ндивидуалн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ск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ом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АНДАЖИРАЊЕ ПАТРЉК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826920" y="2336400"/>
            <a:ext cx="8066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патрљка је поступак којим обликујемо патрљак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оводи се еластичном чарапом или еластичним завојем, увек се оставља отвор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 врху патрљка да уочимо евентуалну промену боје коже.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јјача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је компресија на врху патрљка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мањ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дем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рж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ониз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трофич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мускулатур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викав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алн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тиса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бликов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18Z</dcterms:modified>
  <cp:revision>33</cp:revision>
  <dc:subject/>
  <dc:title>Balneoterapija</dc:title>
</cp:coreProperties>
</file>