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2928-BA20-45D3-B924-52CF646ED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C326-B912-4255-B2D2-526ECC0B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B904-083F-49F8-85B1-71D53822B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5377-FE7D-41E0-908C-601CDC458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72F4-8AD7-41C0-BED6-392323BA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8C9A-DE1F-4F56-A19F-D01B0EA7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66BE-AA8F-48A0-B95D-1963DB11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CDB9-26BD-4583-BB2E-39F3E286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3F97-E693-4E12-AEF8-12D2260C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DF54-73AC-4651-BC6D-76B509F8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4782-ECE4-4F05-BFA0-23E9CE7F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04A4-328A-43B2-BD6E-5B54F267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BBC6-CC8E-414A-8B00-CB462D0C7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podloga"/>
          <p:cNvPicPr/>
          <p:nvPr/>
        </p:nvPicPr>
        <p:blipFill>
          <a:blip r:embed="rId1"/>
          <a:stretch/>
        </p:blipFill>
        <p:spPr>
          <a:xfrm>
            <a:off x="611280" y="189000"/>
            <a:ext cx="7921440" cy="5930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264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инезитерап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516280"/>
            <a:ext cx="64008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ц. др Катарина Парезановић-Ил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и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спираторни систем такође ради под већим напором али је битно да се повећани дисајни капацитет повећава на рачун дубљег дисања а не на рачун броја респирација. Минутни респираторни волумен се повећава 5 до 10 пута код највећих оптерећ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01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и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53224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д физичких вежби побољшава се и перисталтика дигестивног тракта, повећава се секреција желуца, убрзан је метаболизам, а посебно је изражено сагоревање масти и шећ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1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и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незитерапија условљава и промене на рефлексним релејним везама, како на нивоу спиналне етаже,тако и на вишем нивоу, а што доводи до стварања нових шема покрета и моторичке актив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Евалуација функција локомоторног апар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42560" y="2387520"/>
            <a:ext cx="76438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мерење дужине екстрем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мерење обима екстрем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мерење обима покрета у зглобов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мануелно тестирање мишићне сна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ДЖ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Терапеутске вежбе</a:t>
            </a:r>
            <a:br>
              <a:rPr sz="4000"/>
            </a:b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азична техника-врсте вежб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78272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стављају сврсисходне,систем.п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 доприносе очувањ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спостављању или замени оштећене фу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250920" y="1811160"/>
            <a:ext cx="4249800" cy="4114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4648320" y="412128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сив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помогну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тив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тивне са отп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тивн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са оптере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времене мет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unkow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х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F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х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bath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х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jta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т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жбe у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суспенз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einVogelbach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х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 Kenzy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тех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457200" y="2762280"/>
            <a:ext cx="4038480" cy="220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асивне веж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инципи: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стабилизација проксималних зглоб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придржавање дисталних свих зглоб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до б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лагани, глатки покрети, без истез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ефект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:- одржавање физиолошке дужине миши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одржавање обима покрета у зглобови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аферентација сегмента стимулацијом проприоцеп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стимулација трофике и рефлек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припрема за активне веж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контраиндикациј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свеже повре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млитаве одузет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запаљенски реуматиз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ктивно потпомогнуте веж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99640" y="1600200"/>
            <a:ext cx="748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омоћ терапеу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успен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 во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омоћ здравим екстремите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Принципи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Ефек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бјаснити болеснику шта да ради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јачање миши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ружити минималну помоћ     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преду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избегавати употребу др мишића        координ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ратак одмор после сваког пок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ктивне веж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Принцип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детаљно показати све фазе вежб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дозирати теж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пацијент не сме бити с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Ефек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побољшање координ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повећање брз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аутоматиз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општа издржљив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ктивне са оптерећењ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оптерећ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произвољно: експандер, мануел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одмерено: тегови, динаметар,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ули апа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ler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5-10 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контракција маx оптерећења 6 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Де Лорме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ефиниција и појам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Кинези терапија (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гр.кинеин-кретати се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инесис-покрет) је област физикалне терапије, која се бави применом терапеутских  ве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жби ради  очувања,успостављања, развијања и замене функције локомотормог апара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о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1981. гoд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 п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шe: "Пoкрe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oм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лo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њу зa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њ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утс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ст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,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стала медикаментозна средства не могу заменити покре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Агенс је покрет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Циљеви терапеутских вежб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55280" y="18558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ржање или повећањ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бима покрета у зглоб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наге мишић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рдинације покр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рзине покр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окалне и опште издржљив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ировање и мишићна сна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6000" y="171144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нактивите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је нефизиолошко стање. Оно је условљено имобилизацијом, углавном код посттрауматских стања или код парализе, због првенствено немогућности активног кретања. Инактивитет има последице које се огледају првенствено на апарату за кретање, а затим на кардиоваскуларном, респираторном и процесима метаболизм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ировање и мишићна сна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инестетички импулси се код овог стања не формирају јер нема активности а то значи одсуство аферентације и фасилитације ЦНС па то условљава гашење енграма и губитак координације и аутоматизма при кретању. Долази до атрофије мишића. Код гипсане имобилизације мишићи далеко брже пропадају (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Moll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1970., 1,5 до 3,0% дневно или 10 до 20% недељно). Да би ојачали ослабљене мишиће потребно је дупло дуже време од настанка хипотрофиј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978280" y="32464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ндикације за кинезитерапиј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трауматолог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после повреда меких  ткива, прелома и компликац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ортопед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деформације кичменог стуба (сколиозе, </a:t>
            </a:r>
            <a:br>
              <a:rPr sz="2600"/>
            </a:b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кифозе), стопала, поремећаји </a:t>
            </a:r>
            <a:br>
              <a:rPr sz="2600"/>
            </a:b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окоштавања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после остеотомија, артопластика, </a:t>
            </a:r>
            <a:br>
              <a:rPr sz="2600"/>
            </a:b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артродеза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неуролог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периферне и централне одузет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миопатије, миозити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ндикације за кинезитерапиј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793116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реуматолог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запаљенски, ванзглобни, дегенеративни у ре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гинекологија и акушерств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после операција, превенција компликац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припрема за безболан порођај, после порођа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хирург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пре и после оперативних захвата у </a:t>
            </a:r>
            <a:br>
              <a:rPr sz="2600"/>
            </a:b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неурохирургији, васкуларној, грудној, </a:t>
            </a:r>
            <a:br>
              <a:rPr sz="2600"/>
            </a:b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општој хирургији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Контраиндикације за кинезитерапиј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26560" y="1855800"/>
            <a:ext cx="366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локал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утно запаљ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крвар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бол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ТБ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псолутних контраиндикација н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284360" y="185580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опш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фебрил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висок 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инсуфицијенција срц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бубрега, јетре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тежа респираторн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обољ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090220101803"/>
          <p:cNvPicPr/>
          <p:nvPr/>
        </p:nvPicPr>
        <p:blipFill>
          <a:blip r:embed="rId1"/>
          <a:stretch/>
        </p:blipFill>
        <p:spPr>
          <a:xfrm>
            <a:off x="2195640" y="260280"/>
            <a:ext cx="4511520" cy="60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риј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58560" y="1855800"/>
            <a:ext cx="6481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веђанин Линг (1776 - 1839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 први увео програм активних вежби у циљу лечења болесних стања локомоторног апарата (шведска гимнастик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Неурофи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ишићна контракциј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је основни битан елеменат кинезитерапије.Статичка и динамичка функција локомоторног апарата обезбеђује се мишићном контракцијом која је резултат сложеног процеса на разним нивоима организације моторне активности, а који започиње импулсом из моторних ћелија мождане коре.Импулси из мождане коре и супкортикалних формација доспевају кортикоспиналним (пирамидни систем и другим путевима кортикостриоретикуларни-екстрапирамидни систем) до кичмене мождине а затим  преко периферног моторног неурона да неуромишићне спојнице, а тиме и до мишићног влак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Неурофи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моторн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јединиц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-сва мишићна влакна инервисана од стране једне моторне ћелије предњих рогова кичмене мождине; није анатомска него функционална јединиц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моторни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неурон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-екстафузална влакна-покрет или стабилизац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моторни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неурон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-интрафузална влакна-постуралну припрему покрет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стереотип покрет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: аутоматизовани, лако изводљиви без већег утрошка енергије захваљујући “програмирању” екстрапирамидног систе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кроз инактивитет се гас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Кине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Кинезиологиј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је наука која се бави проучавањем покрета. Она проучава биомеханику, као и функционалну анатоми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полу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брзине (лакат, подизање на прст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снаге (зглобови ГЕ и Д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равнотеже (атланто-окципитални, куков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мишићна контрак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је стање раздражљивости мишића која тежи његовом скраћењу, без обзира да ли пости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врсте: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изометријс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изотонич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подела мишића према функциј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агони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антагони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синерги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фиксат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herinton-ov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закон реципрочне инерв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и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а кинезитерапије је активни покрет. Сваки физички напор пра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н је одговарајућим физиолошким променама на респираторном кардиоваскуларном као и нервном систем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и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миру мишићи користе само 15% минутног срчаног волумена, а при оптерећењу то се повећава 4 до 5 пу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емодинамски захтеви срца се повећавају и то се може надокнадити првенствено повећањем минутног волумена и убрзањем пул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и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99640" y="1844280"/>
            <a:ext cx="74170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д тренираних особа са здравим кардиоваскуларним системом ударни волумен се повећава, као и минутни волумен 2 до 3 пута. Такође се и пулс м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 повећати. Код максималних оптерећења потребно је у року од 5 до 10 минута да се пулс врати на стање пре оптереће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18:01:41Z</dcterms:created>
  <dc:creator>Vojislav Ilic</dc:creator>
  <dc:description/>
  <dc:language>en-US</dc:language>
  <cp:lastModifiedBy>katarinaparezanovicilic@gmail.com</cp:lastModifiedBy>
  <dcterms:modified xsi:type="dcterms:W3CDTF">2020-09-26T16:55:46Z</dcterms:modified>
  <cp:revision>11</cp:revision>
  <dc:subject/>
  <dc:title>Slide 1</dc:title>
</cp:coreProperties>
</file>